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FD9-A429-4420-A18D-AEE19A96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8EC-92CE-451D-8619-817CDA4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B56-0854-4B35-AD42-1B49D798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69E-FA0E-42ED-82C5-8A39AC70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1FF-1295-43E9-AA45-3307830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0D5-3840-4BCF-9277-FCE400C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FA9-3AAB-4AD7-AFF4-2EF6E19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652-C6B2-473B-B7A2-93857EE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2F9-BFE9-4F9A-8365-6B323995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F65-E825-4976-8658-8BC2D968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99D-83D8-4750-A731-BBE59E2C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AAA-FA2C-42EC-829B-4A76A47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5031-CC01-4505-AD01-67660729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0"/>
            <a:ext cx="7543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894"/>
                <a:gd name="adj2" fmla="val 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</a:t>
            </a: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y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mber Blake &amp;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66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Emily Smith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66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yadh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city of Saudi Ara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ca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place of Mecca, a spiritual hub of Islamic religious beliefs and fa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52280"/>
            <a:ext cx="7848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laces to visit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372120" cy="241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452124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, bordering the Persian Gulf and the Red Sea, north of Y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roleum, natural gas, iron ore, gold,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ve coastlines on Persian Gulf and Red Sea provide great leverage on shipping (especially crude oil) through Persian Gulf and Suez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5333760"/>
            <a:ext cx="8763120" cy="15238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The oil-enriched economy has brought some 5.6 million resident foreigners—mostly from Arab states or South 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13 dams within the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95280" y="152280"/>
            <a:ext cx="6096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Land</a:t>
            </a:r>
            <a:endParaRPr b="0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4419720"/>
            <a:ext cx="670536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ly uninhabited, sandy 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sh, dry desert with great temperature extr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4114800"/>
            <a:ext cx="5715000" cy="2057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require little water and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small herbs and shr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Arabia is mostly a des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2292120" y="2825640"/>
            <a:ext cx="608940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Vegetation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2438280"/>
            <a:ext cx="7162560" cy="2438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di Arabia was an absolute monarchy until 199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which time the Saud royal family introduc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's first constitution. The legal system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sharia (Islamic law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: 27,601,0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04920"/>
            <a:ext cx="5333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251000">
            <a:off x="-4680" y="133200"/>
            <a:ext cx="6468840" cy="5967720"/>
          </a:xfrm>
          <a:prstGeom prst="irregularSeal2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founded Islam ther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location of the two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grimage cities of Mec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d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discovered oil there in 193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4647600" y="3047760"/>
            <a:ext cx="693432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 Black"/>
              </a:rPr>
              <a:t>Histor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1926800">
            <a:off x="1971360" y="380520"/>
            <a:ext cx="6480000" cy="5616720"/>
          </a:xfrm>
          <a:prstGeom prst="cloudCallout">
            <a:avLst>
              <a:gd name="adj1" fmla="val -70476"/>
              <a:gd name="adj2" fmla="val -366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xport 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troleum and manufactured articl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udi Riyal (SR) is the unit of currency in the Kingdom of Saudi Arab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5400000">
            <a:off x="-2209680" y="289548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Econo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33720" y="685800"/>
            <a:ext cx="47242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90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rial Black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077320" cy="434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ditional clothing for men and women is the Th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loose, long-sleeved, ankle-length gar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bes worn in summer are generally whit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co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bes worn in winter are generally darker in col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w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foods like dat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t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lat bread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ika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read from the southwes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country)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way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spice blen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 language is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Arabia’s main religion is Isl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8:45:20Z</dcterms:created>
  <dc:creator>emilymsmith</dc:creator>
  <dc:description/>
  <dc:language>en-US</dc:language>
  <cp:lastModifiedBy>McFaddeR</cp:lastModifiedBy>
  <dcterms:modified xsi:type="dcterms:W3CDTF">2009-03-16T13:12:20Z</dcterms:modified>
  <cp:revision>16</cp:revision>
  <dc:subject/>
  <dc:title>Slide 1</dc:title>
</cp:coreProperties>
</file>